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2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مستخدم مقتنع بـ Microsoft Office" initials="ممبM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29.xml><?xml version="1.0" encoding="utf-8"?>
<p:cmLst xmlns:p="http://schemas.openxmlformats.org/presentationml/2006/main">
  <p:cm authorId="0" dt="2002-09-21T13:39:01.000000000" idx="1">
    <p:pos x="-1583" y="309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1080" y="868500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D576B-2577-4A46-A38C-5C711E6263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6BBBB-6E6E-4BD3-A287-10D2E9ACBA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0FC9D-84D1-4248-98A6-1DE58E7EB5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A5A28-F49F-4F2F-A971-8B3FABB5A0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BF537-C2A4-4A52-B059-22020AAF1C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8C0BA-A68B-432C-A55A-D7E0CBB18B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4D1D3-E25E-4507-B08B-EE7CB233CD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17CEC-1B9E-4C0A-944C-95D10DE902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E5652-7C94-4EF8-B1ED-A3B74153A3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A2F43-D2A4-4896-9F02-BF84D9941F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20B2D-E759-4DF7-B628-34EFB5B974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E758D-0BCB-46AB-9255-74780DB1F6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1289F-947A-4270-8AC0-4958C0B91B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900B5-CAF9-4482-8E0A-F4843A8BB2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3CDBE-A098-4422-9A30-4A263A6FBE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5940A-9BE4-4F78-B49E-16C181A310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F5AB5-626A-4029-B3CD-7C3FD0DB11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78153-8E79-4715-830E-8841D24514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CC728-CC22-47D8-AC34-5C2AE42F45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481CA-7A45-4704-92BC-FD777B5D40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02E75-AC96-4E88-A72E-B33EFDE1B4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6EF42-CD3F-4955-AA64-4366FE57E1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5DF1B-6CDE-48ED-934C-1334EED1E2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26B20-564F-4BEB-A71E-D065B5C804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B0B55-5A06-42C1-8F42-A5A8CB1B37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44F92-27DE-41F2-8A3F-9AD09CCF51D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2CB3B-402B-4BEB-A258-866ACC29A8E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435F4-8F54-4FDF-AED2-BB6BFF7A6ED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7633D-64CA-45BC-B056-16A7EE305E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88B59-6840-4DE9-AA07-45D12F185A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E1568-7496-4016-B6F8-BEEAA9AA34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8292F-7C00-436C-8827-68D99D58FC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20256-8BB7-4E79-965A-C591D690532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749A6-3B8A-438B-BDA5-5DE9572402C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A1329-4D8D-4291-BFB7-F62C221C38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790CD-6C5E-4845-8F54-29CDCE733B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BD982-0930-4032-B90B-76C58D8DE2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92856-1BEA-4659-8138-D7339F577C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E093C-E568-42D9-A1C8-043A011069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DE6C-9965-45A5-8CAF-D106C5B04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01E0-11C7-44B2-BE4D-9C30B8DF8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7502-095E-4B09-BBE3-DC3FF109B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BC2D-045B-40A3-A2EF-44EFB0C3F8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9659-91E0-4ABD-A5F5-293A68D20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9A97-AC63-4621-86AB-17D85B166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1A63-08CA-4294-8C4E-F506A8611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BC61-81DD-4DFC-A1BE-6F4CDA46A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226360" cy="63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F334-CD55-4E50-93C0-423038D75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5497-1F79-4B16-B695-AA68E1F16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BC01-BE10-4497-BF46-4ECC2DEE2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13E3-80E5-401A-8CEB-3C9B383A3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7DFD9-DB5A-43CF-8260-E36FB0F1D32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C58EC-5B8F-41A4-9B40-98100F06E84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66560" y="3985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roadway"/>
              </a:rPr>
              <a:t>MARKETING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63640" y="213372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00ccff"/>
                </a:solidFill>
                <a:latin typeface="Arabic Typesetting"/>
              </a:rPr>
              <a:t>الخطة التسويقية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132000" y="5877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667EE-F4CE-4A70-849D-72D6B625BCB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53964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ليل المشكلات والمعوقات داخل المنشأ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ويل المعطيات الخارجية إلى فرص تسويق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3AAAC-EBF7-4CF3-8388-417F70F1A3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5271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تطوير الاستراتيجية الحال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19120" y="3645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عاون متكاملة لإتمام العمل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692360" y="242100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98760" y="18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سويق متكامل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A446C-55C0-4E6B-87D8-54274012047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144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7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نفيذ لعمليات التسويق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3429000"/>
            <a:ext cx="8229600" cy="2016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13d955"/>
                </a:solidFill>
                <a:latin typeface="Courier New"/>
                <a:cs typeface="Tahoma"/>
              </a:rPr>
              <a:t>جميع هذه القرارات أو بعضها يعتبر استراتيجياً والبعض الآخر تنظيمي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9528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المراقبة المستمرة والتوجيه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AB479-CA65-4438-B7CD-A3BCBA6F76F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419640" y="2739960"/>
            <a:ext cx="2016000" cy="901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SWOT</a:t>
            </a: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13d955"/>
                </a:solidFill>
                <a:latin typeface="Tahoma"/>
              </a:rPr>
              <a:t>ق ض ف 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556000" y="969840"/>
            <a:ext cx="3456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فر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Opport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843280" y="5373720"/>
            <a:ext cx="28083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تحديات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121440" y="3103560"/>
            <a:ext cx="298764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ضع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280" y="3043080"/>
            <a:ext cx="2340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قـو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eng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284720" y="1413000"/>
            <a:ext cx="1440" cy="115236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284720" y="4221000"/>
            <a:ext cx="1440" cy="115272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2411280" y="3284640"/>
            <a:ext cx="79236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5292720" y="3357720"/>
            <a:ext cx="79200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83EF1-D2AD-442D-89C5-195595CF540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197000"/>
            <a:ext cx="8362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ليل نقاط الضعف ونقاط القوة في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شركة والفرص والتحديات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47640" y="2060640"/>
            <a:ext cx="69343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ahoma"/>
                <a:ea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43280" y="465300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C0E94-EBA7-4B42-A834-69AE1B16817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50920" y="1125360"/>
            <a:ext cx="843588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Times New Roman"/>
              </a:rPr>
              <a:t>إن بحوث التسويق ضرورية لمعرفة التهديدات والمخاطر في البيئة السوقية المحيطة بالشركة والتي لا يمكن السيطرة عليها وموطن الضعف والقوة التي يمكن السيطرة عليها ، من أجل التخطيط الصحي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96341-292A-4DE4-931A-F5D9259DC75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828720"/>
            <a:ext cx="8229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تعريف بحوث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16000" y="2552760"/>
            <a:ext cx="7128000" cy="36597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badi MT Condensed Light"/>
                <a:cs typeface="Simplified Arabic"/>
              </a:rPr>
              <a:t>هي جمع وتسجيل وتحليل البيانات التسويقية المتعلقة بالمشكلة موضع البحث ودراستها واتخاذ القرار التسويقي المناسب</a:t>
            </a:r>
            <a:r>
              <a:rPr b="1" lang="en-US" sz="3600" spc="-1" strike="noStrike">
                <a:solidFill>
                  <a:srgbClr val="ffcc00"/>
                </a:solidFill>
                <a:latin typeface="Abadi MT Condensed Light"/>
                <a:ea typeface="Simplified Arab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96A13-8DBD-4592-ADF8-635E71F06B7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24000" y="260280"/>
            <a:ext cx="8619840" cy="839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زايا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0920" y="1268280"/>
            <a:ext cx="8672400" cy="46818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أولويات  الأنشط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جيدة بمواصفات السلع ومتغيرات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خدام الأسس العلمية في وضع الاستراتيجي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كتشاف الفرص التسويقي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7A94F-909C-4AAD-AD1C-EC56627873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4920" y="189000"/>
            <a:ext cx="8964720" cy="86652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32098f"/>
                </a:solidFill>
                <a:latin typeface="Tahoma"/>
                <a:cs typeface="Tahoma"/>
              </a:rPr>
              <a:t>تشمل عملية التخطي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74920" y="1557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بدء ببحوث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1280" y="2565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وقوف على مواضع القوة والضعف 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68360" y="35733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موضع الشركة في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-324000" y="458136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خطة التسويقية بالتركيز على مواقع القوة</a:t>
            </a: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 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4F0DC-3B3D-4619-AAF6-F589763C709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200" y="33984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بؤ بحجم المبيعات المتوق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581120" y="143496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استراتيجيات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25322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موازنة الخاصة ب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50920" y="36291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صميم المنتج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4920" y="47260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في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8200" y="582300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رقابة والمتابعة للخط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9DB19-A7E9-4C63-B48E-6E9D06D7989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144360" y="144360"/>
            <a:ext cx="8745480" cy="1913040"/>
            <a:chOff x="144360" y="144360"/>
            <a:chExt cx="8745480" cy="1913040"/>
          </a:xfrm>
        </p:grpSpPr>
        <p:sp>
          <p:nvSpPr>
            <p:cNvPr id="56" name="AutoShape 3"/>
            <p:cNvSpPr/>
            <p:nvPr/>
          </p:nvSpPr>
          <p:spPr>
            <a:xfrm>
              <a:off x="144360" y="144360"/>
              <a:ext cx="8745480" cy="19130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289080" y="662040"/>
              <a:ext cx="845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ar-SA" sz="5400" spc="-1" strike="noStrike">
                  <a:solidFill>
                    <a:srgbClr val="32098f"/>
                  </a:solidFill>
                  <a:latin typeface="Courier New"/>
                  <a:cs typeface="Courier New"/>
                </a:rPr>
                <a:t>الخطة التسويقية</a:t>
              </a: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Text Box 5"/>
          <p:cNvSpPr/>
          <p:nvPr/>
        </p:nvSpPr>
        <p:spPr>
          <a:xfrm>
            <a:off x="539640" y="3284640"/>
            <a:ext cx="8209080" cy="2908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abic Transparent"/>
              </a:rPr>
              <a:t>هو عبارة عن خطة توضع لبلوغ هدف الشركة التسويق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23590-35C3-4A30-A506-7D9A5CDD7A6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50920" y="333360"/>
            <a:ext cx="8569080" cy="792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جالات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2205000"/>
            <a:ext cx="7772400" cy="4248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حجم وطبيعة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أسواق الرئيس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اتجاهات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ة السوقية ل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عدد عملاء الشركة وطبيعت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059280" y="1341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1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86F50-FD4A-4694-A30A-27A14B8024F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900000" y="620640"/>
            <a:ext cx="7793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2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نافس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4360" y="1989000"/>
            <a:ext cx="7772400" cy="4032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طبيعة وحجم المنافسين وتوزع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نقاط الضعف والقو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للمنتجات المنافس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قارنة المنتجات المنافسة والتعرف على المنتجات الجديدة والبديل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08EEF-694F-438F-8DCA-A1D06A13DE2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179360" y="560520"/>
            <a:ext cx="70502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بيعا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332000" y="1773360"/>
            <a:ext cx="6902280" cy="44352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ليل المبيعات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لمناطق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فعالية السياس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إيجاد البدائل في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ص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05A6B-3244-4C79-8E55-431D608C7B3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689280" y="828720"/>
            <a:ext cx="45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4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ل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03240" y="1989000"/>
            <a:ext cx="7772400" cy="37544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سلع المناف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وصف السل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لتعرف على متطلبات وحاجات المستهلك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فرص إنتاج سلع جديد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1541D-177B-4AFB-AC5D-16799F5409B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042920" y="765000"/>
            <a:ext cx="779328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5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رويج والإعلا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9640" y="1989000"/>
            <a:ext cx="8271000" cy="43927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نظرة شاملة عن الاستراتي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أساليب الترويج المتوفر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وسائل الإعلان والرسائل الإعلانية المتواجدة في الأسواق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ستراتيجية التروي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1E9BB-FD60-434D-A456-F88548DF285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549520" y="898560"/>
            <a:ext cx="5756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6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وزيع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42920" y="2017800"/>
            <a:ext cx="7416720" cy="43639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راتيجية التوزي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منافذ التوزيع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منافذ التوزيع الخاصة با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فعالية التوزيع الم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أسس اختيار الموزع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2E1EB-E36A-40DE-A9C7-777BA9F8924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611280" y="476280"/>
            <a:ext cx="8188200" cy="865080"/>
          </a:xfrm>
          <a:prstGeom prst="rect">
            <a:avLst/>
          </a:prstGeom>
          <a:solidFill>
            <a:srgbClr val="2b548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e5ffff"/>
                </a:solidFill>
                <a:latin typeface="Tahoma"/>
                <a:cs typeface="Tahoma"/>
              </a:rPr>
              <a:t>خطوات البحث التسويق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55640" y="2205000"/>
            <a:ext cx="7920000" cy="27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ديد الهدف من البحث وتحديد المشكلة وأسبابها بشكل دقيق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26A0A-BAF9-475C-B5BD-0ED3C4159BE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556000" y="260280"/>
            <a:ext cx="4481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  <a:cs typeface="Tahoma"/>
              </a:rPr>
              <a:t>تحديد المشكلة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116000" y="2133720"/>
            <a:ext cx="755172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عوائق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ستغلال الفرص التسويقية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8B373-B872-472E-9B67-FB48EAD9969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826920" y="1628640"/>
            <a:ext cx="7705800" cy="4535640"/>
          </a:xfrm>
          <a:prstGeom prst="foldedCorner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883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خطوات تعريف المشكلة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55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عري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عرف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سبب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تعر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بعم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على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أعراض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حديد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هد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ن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والخطو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واجب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إتباعها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لإتمام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طلوب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FEC1B-9102-4DAE-A2CB-89CB98264F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0" y="476280"/>
            <a:ext cx="9144000" cy="1620720"/>
          </a:xfrm>
          <a:prstGeom prst="rect">
            <a:avLst/>
          </a:prstGeom>
          <a:gradFill rotWithShape="0">
            <a:gsLst>
              <a:gs pos="0">
                <a:srgbClr val="d4d4e2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32098f"/>
                </a:solidFill>
                <a:latin typeface="Tahoma"/>
              </a:rPr>
              <a:t>عوامل أساسية لإتمام بحوث التسويق بنجا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68360" y="278136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0066"/>
              </a:buClr>
              <a:buFont typeface="Wingdings" charset="2"/>
              <a:buChar char="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التوقيت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                 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9900"/>
              </a:buClr>
              <a:buFont typeface="Arabic Transparent"/>
              <a:buChar char="£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9900"/>
                </a:solidFill>
                <a:latin typeface="Tahoma"/>
                <a:cs typeface="Tahoma"/>
              </a:rPr>
              <a:t>التمويل</a:t>
            </a: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                 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MON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5b3300"/>
              </a:buClr>
              <a:buFont typeface="Wingdings" charset="2"/>
              <a:buChar char="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13d955"/>
                </a:solidFill>
                <a:latin typeface="Tahoma"/>
                <a:cs typeface="Tahoma"/>
              </a:rPr>
              <a:t>الدقة</a:t>
            </a: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                 </a:t>
            </a:r>
            <a:r>
              <a:rPr b="1" lang="en-US" sz="4000" spc="-1" strike="noStrike">
                <a:solidFill>
                  <a:srgbClr val="13d955"/>
                </a:solidFill>
                <a:latin typeface="Tahoma"/>
                <a:ea typeface="Tahoma"/>
              </a:rPr>
              <a:t>ACCUR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B554C-49F6-4998-90C6-369A15C4C22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95280" y="189000"/>
            <a:ext cx="828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ahoma"/>
                <a:cs typeface="Tahoma"/>
              </a:rPr>
              <a:t>قبل تحديد الهدف لا بد من الإجابة على الأسئلة التالية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4920" y="1989000"/>
            <a:ext cx="867564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ماهية الصناعة التي تمارسها الشركة</a:t>
            </a:r>
            <a:r>
              <a:rPr b="1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63760" y="2492280"/>
            <a:ext cx="634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نوعية منتجات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80960" y="350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وضع الشركة في السو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80960" y="4437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حجم المناف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8096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    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زبائن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81AF5-31B4-4B9D-B3A7-7B1631D9A46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68360" y="260280"/>
            <a:ext cx="82296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فرص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أسواق (حجمها ـ تقسيماتها ـ توزيعها …..)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زبائ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حجم الطلب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تنوع المنتجات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تطور التق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اقتصاد الوط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و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9CEA2-91D1-4777-AE68-2A893E1782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 </a:t>
            </a: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معوقات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تجات البديل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سعار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انهيار الاقتصادي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نظمة والقوانين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00FBD-B769-4029-916D-6D186A4A930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-433440" y="380880"/>
            <a:ext cx="910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3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ية الوصول إلى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واستغلالها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-900000" y="1844640"/>
            <a:ext cx="95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التغلب على التحديات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في الأسواق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6360" y="3929040"/>
            <a:ext cx="8639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توظيف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لاستخدامها كموارد هامة تستفيد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منها الشركة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B7B12-80C1-4C6B-9C70-4074F42BA1E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765000"/>
          <a:ext cx="7346880" cy="4897440"/>
        </p:xfrm>
        <a:graphic>
          <a:graphicData uri="http://schemas.openxmlformats.org/drawingml/2006/table">
            <a:tbl>
              <a:tblPr/>
              <a:tblGrid>
                <a:gridCol w="1366920"/>
                <a:gridCol w="2738160"/>
                <a:gridCol w="3241800"/>
              </a:tblGrid>
              <a:tr h="1511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قوي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74000" rIns="828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فر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74000" marR="82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33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ضعي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تحديدات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heel spokes="2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098A1-9DB6-4A85-97AA-71F75229B08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145040" y="2841480"/>
            <a:ext cx="4572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Courier New"/>
                <a:cs typeface="Courier New"/>
              </a:rPr>
              <a:t>هــــو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620640"/>
          <a:ext cx="8059680" cy="5359320"/>
        </p:xfrm>
        <a:graphic>
          <a:graphicData uri="http://schemas.openxmlformats.org/drawingml/2006/table">
            <a:tbl>
              <a:tblPr/>
              <a:tblGrid>
                <a:gridCol w="216000"/>
                <a:gridCol w="593640"/>
                <a:gridCol w="1308240"/>
                <a:gridCol w="2987640"/>
                <a:gridCol w="2954160"/>
              </a:tblGrid>
              <a:tr h="1617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ar-SA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أنـــــــــــــــــــــــــــــــــــــــــا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ضعيـف             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قـوي</a:t>
                      </a:r>
                      <a:r>
                        <a:rPr b="1" lang="en-US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قو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أقوي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</a:t>
                      </a: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نا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ق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9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نا قـ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ضعف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4" name="Text Box 40"/>
          <p:cNvSpPr/>
          <p:nvPr/>
        </p:nvSpPr>
        <p:spPr>
          <a:xfrm rot="16200000">
            <a:off x="-155160" y="33505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ahoma"/>
              </a:rPr>
              <a:t>هــــــــــــــــــــ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D6503-FD39-496C-8D40-2ACBFB8C3E2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476280"/>
            <a:ext cx="86868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بيئة الداخ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هيكل الإداري والتنظيمي في الشرك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إنتاج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بشر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تمويل المالي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وضع الشركة في السوق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91EEA-D501-4F23-9A79-AB075DE6E56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Times New Roman"/>
              </a:rPr>
              <a:t>بيئة التسويق والعوامل المؤثرة فيه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57200" y="1690560"/>
            <a:ext cx="8229600" cy="4114800"/>
          </a:xfrm>
          <a:prstGeom prst="rect">
            <a:avLst/>
          </a:prstGeom>
          <a:noFill/>
          <a:ln w="936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99"/>
                </a:solidFill>
                <a:latin typeface="Tahoma"/>
                <a:cs typeface="Arabic Transparent"/>
              </a:rPr>
              <a:t>تتأثر المشروعات الصناعية بالعديد من العوامل المحيطة بالمشروع وهي مؤثرات خارجية وداخلية، بعض هذه العوامل يمكن السيطرة عليها والبعض لا يمكن السيطرة عليها</a:t>
            </a: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957B9-D3B6-4C49-9B85-F9780A9E53B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600" spc="-1" strike="noStrike">
                <a:solidFill>
                  <a:srgbClr val="e5ffff"/>
                </a:solidFill>
                <a:latin typeface="Arabic Typesetting"/>
                <a:cs typeface="Arabic Typesetting"/>
              </a:rPr>
              <a:t>وهو مزيج من الأنشطة الأربعة الأساسية</a:t>
            </a:r>
            <a:r>
              <a:rPr b="1" lang="en-US" sz="6600" spc="-1" strike="noStrike">
                <a:solidFill>
                  <a:srgbClr val="e5ffff"/>
                </a:solidFill>
                <a:latin typeface="Arabic Typesetting"/>
                <a:ea typeface="Arabic Typesetting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6836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السلعة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السعر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أسواق التوزيع والترويج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Courier New"/>
              </a:rPr>
              <a:t>تعتمد استراتيجية المزيج التسويقي على التناسق والتناغم بين العناصر الأربعة</a:t>
            </a:r>
            <a:r>
              <a:rPr b="1" lang="en-US" sz="3600" spc="-1" strike="noStrike">
                <a:solidFill>
                  <a:srgbClr val="ffcc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just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13d955"/>
                </a:solidFill>
                <a:latin typeface="Courier New"/>
              </a:rPr>
              <a:t>التوازن بين ما تنتجه الشركة والأساليب المستخدمة للوصول إلى الأسواق لتحقيق الربح المطلوب وإشباع الحاجات تحقيق الرغبات</a:t>
            </a:r>
            <a:r>
              <a:rPr b="1" lang="en-US" sz="3600" spc="-1" strike="noStrike">
                <a:solidFill>
                  <a:srgbClr val="13d955"/>
                </a:solidFill>
                <a:latin typeface="Tahoma"/>
                <a:ea typeface="Tahoma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BD70A-3885-4C61-8B52-770F017FCC9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تحليل</a:t>
            </a:r>
            <a:r>
              <a:rPr b="0" lang="ar-SA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المنافسين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-327672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3600" spc="-1" strike="noStrike">
                <a:solidFill>
                  <a:srgbClr val="00ccff"/>
                </a:solidFill>
                <a:latin typeface="Times New Roman"/>
              </a:rPr>
              <a:t>المنافسة الافتراضية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57200" y="170028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</a:rPr>
              <a:t>ـ المنافسة المباشر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5720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افسة المتوقعة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57200" y="3483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تجات البديلة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63480" y="4289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تعزيز التواصل مع الممولي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46040" y="5157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زوال التواصل مع الزبائ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E8E7A-6EF9-4345-81EC-57C7AB6840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380880"/>
            <a:ext cx="8229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لجعل الهدف أكثر فاعلية نتعرف إلى ماهية القرارات المتعلقة باستراتيجيات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CB7BB-E5CF-452C-BB35-175D81A4722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14273c"/>
              </a:gs>
              <a:gs pos="50000">
                <a:srgbClr val="2b5481"/>
              </a:gs>
              <a:gs pos="100000">
                <a:srgbClr val="1427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مفهوم الخطة الاستراتيجية ل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13d955"/>
                </a:solidFill>
                <a:latin typeface="Tahoma"/>
                <a:cs typeface="Tahoma"/>
              </a:rPr>
              <a:t>ما المقصود بالإستراتيجية؟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هي مجموعة من الخطط توضع لتنفيذ هدف أو أهداف الشركة للوصول إلى تنفيذ رسالة  (أو غاية ) الشركة التي وضع الهدف من أجلها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32B20-F2B1-4A55-A907-54A123F0108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Freeform 2"/>
          <p:cNvSpPr/>
          <p:nvPr/>
        </p:nvSpPr>
        <p:spPr>
          <a:xfrm>
            <a:off x="395280" y="907920"/>
            <a:ext cx="8424720" cy="4465800"/>
          </a:xfrm>
          <a:custGeom>
            <a:avLst/>
            <a:gdLst>
              <a:gd name="textAreaLeft" fmla="*/ 1307520 w 8424720"/>
              <a:gd name="textAreaRight" fmla="*/ 7117200 w 8424720"/>
              <a:gd name="textAreaTop" fmla="*/ 693000 h 4465800"/>
              <a:gd name="textAreaBottom" fmla="*/ 3772800 h 44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05" y="21600"/>
                </a:lnTo>
                <a:lnTo>
                  <a:pt x="1849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لابد من تحديد استراتيجية التسويق باعتبار أن التسويق هو الهدف الأساسي لأي منشأ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3B2B9-C29E-4B98-B7DF-61E2CA6C54C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68360" y="620640"/>
            <a:ext cx="8229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شرك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ي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مكن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ذه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بمعايي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م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نو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و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حال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ل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ن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تسويق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ق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خ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فر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لمخاط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موجود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سواق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0FCA6-D9BA-470C-A46A-376447B29E5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564000" y="380880"/>
            <a:ext cx="5122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ffff99"/>
                </a:solidFill>
                <a:uFillTx/>
                <a:latin typeface="Courier New"/>
              </a:rPr>
              <a:t>الواقع التحليل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أن خطة التسويق الاستراتيجية يجب أن توضع من خلال التحليل التسويقي باستخدام الأدوات التالي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B2058-1224-4D98-A561-2FAA904E33C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24000" y="1052640"/>
            <a:ext cx="82296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خارج المنشأة لابد من إجراء مسح شامل لبيئة السوق، وتحليل لواقع المنافسة، وللمستهلك والوضع الاقتصادي، والحكومي، والتكنولوجي…الخ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8:59:46Z</dcterms:created>
  <dc:creator>pc</dc:creator>
  <dc:description/>
  <dc:language>en-US</dc:language>
  <cp:lastModifiedBy>M.A.S tech</cp:lastModifiedBy>
  <dcterms:modified xsi:type="dcterms:W3CDTF">2022-02-26T14:01:36Z</dcterms:modified>
  <cp:revision>105</cp:revision>
  <dc:subject/>
  <dc:title>تحديد نقاط الضعف والقوة والفرص والتحديات</dc:title>
</cp:coreProperties>
</file>